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99B-C0DC-4E21-81E3-2637A90F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E7A-2234-49E2-AF7F-51EC15F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DF5-5EC5-419C-99E0-8BD8DA78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720-1032-483E-8C96-1D448CCE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7AABD-499B-402A-BB26-1855EDFA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24A8-67A3-4E17-BA7F-9D497831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01AC6-AA2A-418B-A2F3-356EC0B3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B920A-B6DF-4E89-B350-B841C074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E1ADD-8908-4E41-A25E-8E4C95E9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C5E14-6C0D-417E-B2C2-BD6B2A37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C3A23-79C7-445F-ACE4-EC72FF7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5C4-601B-478C-A42C-2874BA42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64D71-8321-4B7B-8103-4857E21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E0158-7996-4DAD-ACCF-75F9EC7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120D9-1949-4976-8EC1-D82DB2A3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74588-0891-41DB-877A-2450E0A0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85711-7850-4884-ADCB-9E7B02B1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34B-57A6-40BC-BB90-CD64BA6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0F8-9432-46E4-A9D2-0A8B2A68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E34-5F46-4EF9-9C1D-34CC43BE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F60-31B3-41AF-8578-B1011D7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AA79-E4F5-4ED3-80E1-E9EC321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1DE-972A-496A-A691-1E80B54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E66-646B-426E-AD8B-B3AA2AC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7C4-43A4-4E24-8B83-8D07638F6A19}" type="datetime3">
              <a:rPr b="0" lang="en-US" sz="1200" spc="-1" strike="noStrike">
                <a:solidFill>
                  <a:srgbClr val="ffffff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41FB-5E90-4107-8F6B-77F7C41ED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2AA8-48B4-4538-BA20-5128FBCD7D2F}" type="datetime3">
              <a:rPr b="0" lang="en-US" sz="1200" spc="-1" strike="noStrike">
                <a:solidFill>
                  <a:srgbClr val="ffffff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481A-10B8-46BF-873F-02F6796ABC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747280" cy="21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71600" y="3197160"/>
            <a:ext cx="6400800" cy="17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Garden of Gethsemane Jesus tells Peter, James and John to stay here and watch with 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goes further into the garden and prays, “O my Father, if it be possible, let this cup pass away from me; nevertheless let it not be as I want but as you wan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ce He returns to find Peter, James and John asl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ird time He returns He tells them to get up and go because the one who betrays me is n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467480" cy="96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rrest of Jesus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s leads soldiers and officers from the high priest and Pharisees to the gard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s identifies Jesus with a k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sciples ask Jesus “Lord do you want us to fight with the sword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draws his sword and cuts off the ear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h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ervant of the high pri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’ disciples, seeing Him taken captive scatter and fl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934320" cy="104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as, the previous high, questions Jesus about his disciples and about his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responds; I have spoken openly to the world and have said nothing in secr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ose who heard what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one of the officers struck Jesus with his open hand for answering the high priest in such a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, still bound, was sent to the house of Annas, the high priest, where the Sanhedrin was gathe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nhedrin consisted of about 70 Jewish men, high priest, scribes, and the el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ncil’s meeting at night for trial was il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false witnesses with conflicting testimonies were brought to testify against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54380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848720" cy="1523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ly two men said, “This man said, ‘I am able to destroy the temple of God, and to build it in three days.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aphas asked Jesus, Do you have nothing to say?  But Jesus made no 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aphas pressed Jesus:  “I put you under oath to the living God to tell us the truth:  are you the Christ, the Son of God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ed, 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the time will come when you will see the Son of Man sitting at the right hand of Power (God), and coming with clouds of hea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744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hearing Jesus declare he was the Son of God, Caiaphas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e his clot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d He blasp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eed for further wit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council for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on council said, “He is worthy to di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s then; spat upon, blindfolded, slapped, and reviled in many w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391520" cy="1069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followed Jesus from af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ourtyard he warms by the fire with servants and offi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ose standing around identified Peter as a follower of Chr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denies knowing Him three times as the rooster crowed tw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ing at the Lord, he remembered Him telling him, he would deny him three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left the court, weeping bitter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238880" cy="1295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s taken before the Sanhedrin for a second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ce they asked Jesus, “Are you the Son of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nswers, “I am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uncil declares, we have no further need of testimony, we have heard from his own mouth what he s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 This farce of a second trial was an effort to make the action they had already taken le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01:27:58Z</dcterms:created>
  <dc:creator>John Vines</dc:creator>
  <dc:description/>
  <dc:language>en-US</dc:language>
  <cp:lastModifiedBy>Frank D Vines</cp:lastModifiedBy>
  <dcterms:modified xsi:type="dcterms:W3CDTF">2006-09-02T00:20:42Z</dcterms:modified>
  <cp:revision>52</cp:revision>
  <dc:subject/>
  <dc:title>Life of Christ, Part 2 “Sir, We Would See Jesus” </dc:title>
</cp:coreProperties>
</file>